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C84-50B1-4495-9F2E-BCBE5388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AF2-1B79-47EE-986D-C176BD4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343-E507-48E0-937D-8BECD466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322-D62C-4069-B3DC-5A2C31EA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AAD-47C4-4317-B95D-5E76C68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EBE-6519-4AE3-A75C-FC63A24A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BE8-017E-41AB-BE41-C257C974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157-291C-4989-90DB-2C69B9DE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709-A8CB-4205-B8B5-9D2D859E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752-F639-48F8-8871-4A5E9AD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E7E-2972-4115-A967-799AE6B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BF4-4D50-49D4-8F80-8EC31E0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ECF9-A455-456A-B77B-B7CE1E67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freeplaymusic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wakefield.html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38088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ocolate 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ip 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80008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okies</a:t>
            </a:r>
            <a:endParaRPr b="0" lang="en-US" sz="1800" spc="1" strike="noStrike">
              <a:ln w="44280">
                <a:solidFill>
                  <a:srgbClr val="80008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5253120"/>
            <a:ext cx="4038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ah Fl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7/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6640" y="1371600"/>
            <a:ext cx="1827360" cy="16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674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495288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529240"/>
            <a:ext cx="3809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aker Underscor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. 27, 20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akefield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56656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ocolate Chip Cooki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3,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wakefiel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62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Wakefield made this on accident but now it is so famous and delici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383080"/>
            <a:ext cx="1460520" cy="147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997680" y="2362320"/>
            <a:ext cx="2146320" cy="1239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6748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ion: Chocolate Chip Cook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0 nobody has ever bitten into a Chocolate Chip Cook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Wakefeild ran out of her regular chocolate so she used a chocolate bar from Andrew Nes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made cook books on how to make the famous semi-sweet Chocolate Chip Cook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ccidentally made this delicious cooki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5334120"/>
            <a:ext cx="251460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uth Wakefei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Wakefeild built a toll house to serve homemade me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graduated from Framingham State Normal School Department of Household 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as a dietitian and lectured on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ll House burned down on New Years Eve in 198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passed away in 197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and her husband sold the Toll House Inn to a family who tried to turn it into a night clu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1880" y="5486400"/>
            <a:ext cx="76212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91520" y="6400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41:20Z</dcterms:created>
  <dc:creator>install</dc:creator>
  <dc:description/>
  <dc:language>en-US</dc:language>
  <cp:lastModifiedBy>install</cp:lastModifiedBy>
  <dcterms:modified xsi:type="dcterms:W3CDTF">2012-03-09T15:26:15Z</dcterms:modified>
  <cp:revision>9</cp:revision>
  <dc:subject/>
  <dc:title>Slide 1</dc:title>
</cp:coreProperties>
</file>